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CCE0C-76CB-4DAD-B840-7BF24EB0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2B84-9065-49CB-B3FA-A783743E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6717-E828-4D1A-A899-BF205B6C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284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528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40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284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528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2B43-F48C-4A31-9F7D-19D6E0D5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1CAF-F005-461D-94F7-79FEC73C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7828-06AA-48A3-BE8C-1E4801B1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4856-ABF7-43A6-8EE5-4301E4CB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DA58-8AB0-4952-931F-634FCB9A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32B6-7928-4A45-A8CB-6E4EC4E1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115920"/>
            <a:ext cx="6697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0006-85CC-4F2E-99DC-B9CE5468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E3BA-F419-4707-B9DE-53C7761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7A42-D469-4E1F-BB56-7F1F6BCE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4D87-A60A-4D60-8CD7-D2F29D78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1571-0B4B-4FF3-A04E-2E372AB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2CE9-BF9D-4DBE-BDC0-0CF06B7E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72DC-F1A5-4433-8F9A-887F0474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284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528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040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284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528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0682-66C2-4131-8794-14E8B558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1E42-7531-4208-9914-E8A3C4E6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1CAA-5D80-4A07-8FF9-9403A8C8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CEA3-84D0-45EF-A11A-A9D4602A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115920"/>
            <a:ext cx="6697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4862-9309-45CF-8387-2D9F5BA4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5D67-0CE8-4FD6-ADCA-EC6B0CA7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7A12-4204-46F7-9220-48E2E507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6B18-6E69-47E9-B1BF-7DB75F98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DecimaWE 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E470-33B0-43F5-AEB3-29864A00D799}" type="slidenum">
              <a:rPr b="0" lang="it-IT" sz="1200" spc="-1" strike="noStrike">
                <a:solidFill>
                  <a:srgbClr val="000000"/>
                </a:solidFill>
                <a:latin typeface="DecimaWE R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DecimaWE Rg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1" marL="669960" indent="-32544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2" marL="1022400" indent="-35100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3" marL="1339920" indent="-31608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4" marL="1681200" indent="-33984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3828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DecimaWE Rg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1" marL="669960" indent="-32544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2" marL="1022400" indent="-35100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3" marL="1339920" indent="-31608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4" marL="1681200" indent="-33984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DecimaWE 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8563-A237-45E0-9118-549180BAABB5}" type="slidenum">
              <a:rPr b="0" lang="it-IT" sz="1200" spc="-1" strike="noStrike">
                <a:solidFill>
                  <a:srgbClr val="000000"/>
                </a:solidFill>
                <a:latin typeface="DecimaWE R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90040" y="1052640"/>
            <a:ext cx="7869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CONSULTAZIONE PARTENARIATO AREE INTERNE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PROGRAMMA TRANSFRONTALIERO 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INTERREG ITALIA-AUSTRIA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23/09/2020 Moggio Udinese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85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86" name="Immagine 4" descr="http://www.regione.fvg.it/rafvg/export/sites/default/RAFVG/fondi-europei-fvg-internazionale/POLITICHE_DI_COESIONE_2021-2027/img/politicheDiCoesione2021_2027infografica.png"/>
          <p:cNvPicPr/>
          <p:nvPr/>
        </p:nvPicPr>
        <p:blipFill>
          <a:blip r:embed="rId2"/>
          <a:stretch/>
        </p:blipFill>
        <p:spPr>
          <a:xfrm>
            <a:off x="2987640" y="4292640"/>
            <a:ext cx="338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000" y="83628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GRAZIE PER L’ATTENZIONE! 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DecimaWE Rg"/>
                <a:ea typeface="Arial"/>
              </a:rPr>
              <a:t>Programma Interreg Italia-Austria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DecimaWE Rg"/>
                <a:ea typeface="Arial"/>
              </a:rPr>
              <a:t>Unità di coordinamento regionale per il Friuli Venezia Giulia 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Servizio relazioni internazionali e programmazione europe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Direttore di Servizio: Sandra Sodini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Referenti UCR: Susanna Buiatti - Gabriella Rigoni - Michela Grattoni -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Tiziana Pojani - Lorenzo Rizzello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Buiatti: susanna.buiatt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Rigoni: gabriella.rigo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Grattoni: michela.gratto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Pojani: tiziana.poja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Rizzello: lorenzo.rizzello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UCR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interreg_italia-austria@regione.fvg.it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Sito ufficiale del programma: www.interreg.ne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729480" y="0"/>
            <a:ext cx="2414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UN’IDEA DI BAS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88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89" name="Nuvola 1"/>
          <p:cNvSpPr/>
          <p:nvPr/>
        </p:nvSpPr>
        <p:spPr>
          <a:xfrm>
            <a:off x="755640" y="1450800"/>
            <a:ext cx="7632720" cy="4680000"/>
          </a:xfrm>
          <a:prstGeom prst="pie">
            <a:avLst/>
          </a:prstGeom>
          <a:solidFill>
            <a:srgbClr val="cce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DecimaWE Rg"/>
              </a:rPr>
              <a:t>IL VALORE AGGIUNTO TRANSFRONTALIERO COME CHIAVE DI LETTURA DELLA PROGRAMMAZIONE INTEGRATA</a:t>
            </a: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7"/>
          <p:cNvSpPr/>
          <p:nvPr/>
        </p:nvSpPr>
        <p:spPr>
          <a:xfrm>
            <a:off x="2190600" y="1224000"/>
            <a:ext cx="4534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AREA DI COOPERAZION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50.000 km</a:t>
            </a:r>
            <a:r>
              <a:rPr b="1" lang="it-IT" sz="1800" spc="-1" strike="noStrike" baseline="30000">
                <a:solidFill>
                  <a:srgbClr val="000000"/>
                </a:solidFill>
                <a:latin typeface="DecimaWE Rg"/>
                <a:ea typeface="Arial"/>
              </a:rPr>
              <a:t>2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- 5,5 Mio abitanti                                       5 regioni + 1 provincia - 19 aree NUTS 3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1" name="Picture 46" descr="karte_interreg"/>
          <p:cNvPicPr/>
          <p:nvPr/>
        </p:nvPicPr>
        <p:blipFill>
          <a:blip r:embed="rId1"/>
          <a:stretch/>
        </p:blipFill>
        <p:spPr>
          <a:xfrm>
            <a:off x="2843280" y="2395440"/>
            <a:ext cx="6246720" cy="3780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9"/>
          <p:cNvSpPr/>
          <p:nvPr/>
        </p:nvSpPr>
        <p:spPr>
          <a:xfrm>
            <a:off x="6072120" y="20289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DecimaWE Rg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539640" y="2211480"/>
            <a:ext cx="2210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1) Alto Adige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Bolzano         </a:t>
            </a: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2) Veneto</a:t>
            </a:r>
            <a:r>
              <a:rPr b="1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Belluno, Vicenza, Treviso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3) Friuli Venezia Giulia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Pordenone, Udine, Gorizia, Trieste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4) Carinzia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Klagenfurt-Villach, Unterkärnten, Oberkärnten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5) Salisburgo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Lungau, Pinzgau-Pongau, Salzburg und Umgebung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6) Tirolo</a:t>
            </a:r>
            <a:r>
              <a:rPr b="1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 Tiroler Unterland, Innsbruck, Tiroler Oberland, Außerfern, Osttirol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4" name="Immagine 1" descr=""/>
          <p:cNvPicPr/>
          <p:nvPr/>
        </p:nvPicPr>
        <p:blipFill>
          <a:blip r:embed="rId2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7"/>
          <p:cNvSpPr/>
          <p:nvPr/>
        </p:nvSpPr>
        <p:spPr>
          <a:xfrm>
            <a:off x="1908000" y="673200"/>
            <a:ext cx="48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904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7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8" descr=""/>
          <p:cNvPicPr/>
          <p:nvPr/>
        </p:nvPicPr>
        <p:blipFill>
          <a:blip r:embed="rId2"/>
          <a:stretch/>
        </p:blipFill>
        <p:spPr>
          <a:xfrm>
            <a:off x="1042920" y="1576440"/>
            <a:ext cx="5689800" cy="120492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1" descr=""/>
          <p:cNvPicPr/>
          <p:nvPr/>
        </p:nvPicPr>
        <p:blipFill>
          <a:blip r:embed="rId3"/>
          <a:stretch/>
        </p:blipFill>
        <p:spPr>
          <a:xfrm>
            <a:off x="1036800" y="3100320"/>
            <a:ext cx="71355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04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CLLD HEurOpen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Sviluppo regionale a livello locale nell’ambito delle priorità «crescita intelligente», «crescita sostenibile» e «crescita inclusiva»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ree dei GAL Region Hermagor (KAR), GAL Openleader (FVG) e GAL Euroleader (FVG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Bandi a sportello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01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102" name="Immagine 4" descr=""/>
          <p:cNvPicPr/>
          <p:nvPr/>
        </p:nvPicPr>
        <p:blipFill>
          <a:blip r:embed="rId2"/>
          <a:stretch/>
        </p:blipFill>
        <p:spPr>
          <a:xfrm>
            <a:off x="700200" y="5229360"/>
            <a:ext cx="784224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1" descr=""/>
          <p:cNvPicPr/>
          <p:nvPr/>
        </p:nvPicPr>
        <p:blipFill>
          <a:blip r:embed="rId3"/>
          <a:stretch/>
        </p:blipFill>
        <p:spPr>
          <a:xfrm>
            <a:off x="711360" y="2725560"/>
            <a:ext cx="78310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0400" y="90756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PERCORSO PROGRAMMATORIO EFFETTUATO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2/10/2019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 Task Forc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istituzione TF 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avvio lavor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n base 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poste di regolamento U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e Border Orientation Paper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BOP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Dicembre 2019-Gennaio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Questionario on lin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stakeholder programma (254 risposte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14/01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I TF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secuzione lavor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n base 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documenti strategici regionali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ntributi questionario on lin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risultati valutazione programma 2014-2020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5/03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cambio interregional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Maggio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nterviste con UCR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vvio lavori Valutazione Ambientale Strategica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VAS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vvio lavori Opzioni di Costo Semplificate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OCS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6/05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II TF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: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ocumenti preparatori «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Analisi territorial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» e «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Risposte strategich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lle principali sfide di sviluppo» +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4 Scenari alternativi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Luglio/Agosto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cambio interregional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 Scenari alternativ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 identificazion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otenziali azioni, progetti e beneficiari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da finanziare nel periodo 21-27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05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155520"/>
            <a:ext cx="4824720" cy="6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STRUTTURA DEL PROGRAMMA</a:t>
            </a:r>
            <a:endParaRPr b="0" lang="en-US" sz="2000" spc="-1" strike="noStrike">
              <a:solidFill>
                <a:srgbClr val="0000ff"/>
              </a:solidFill>
              <a:latin typeface="DecimaWE Rg"/>
            </a:endParaRPr>
          </a:p>
        </p:txBody>
      </p:sp>
      <p:pic>
        <p:nvPicPr>
          <p:cNvPr id="108" name="Segnaposto contenuto 2" descr=""/>
          <p:cNvPicPr/>
          <p:nvPr/>
        </p:nvPicPr>
        <p:blipFill>
          <a:blip r:embed="rId2"/>
          <a:stretch/>
        </p:blipFill>
        <p:spPr>
          <a:xfrm>
            <a:off x="782640" y="907920"/>
            <a:ext cx="7845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PERCORSO PROGRAMMATORIO DA EFFETTUAR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ettembre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Prim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bozza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el programm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9/09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V TF (verrà effettuata la scelta tra i 2 Scenari alternativi : lo scenario A è maggiormente supportato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ettembre-Ottobre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nsultazione stakeholder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programm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Novembre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gramma definitivo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a presentare alla CE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0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TORNANDO ALL’IDEA DI BAS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2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113" name="Nuvola 1"/>
          <p:cNvSpPr/>
          <p:nvPr/>
        </p:nvSpPr>
        <p:spPr>
          <a:xfrm>
            <a:off x="755640" y="1442880"/>
            <a:ext cx="7632720" cy="4680000"/>
          </a:xfrm>
          <a:prstGeom prst="pie">
            <a:avLst/>
          </a:prstGeom>
          <a:solidFill>
            <a:srgbClr val="cce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DecimaWE Rg"/>
              </a:rPr>
              <a:t>IL VALORE AGGIUNTO TRANSFRONTALIERO COME CHIAVE DI LETTURA DELLA PROGRAMMAZIONE INTEGRATA</a:t>
            </a: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6:52:50Z</dcterms:created>
  <dc:creator>Grattoni Michela</dc:creator>
  <dc:description/>
  <dc:language>en-US</dc:language>
  <cp:lastModifiedBy>Grattoni Michela</cp:lastModifiedBy>
  <cp:lastPrinted>2016-12-14T12:42:49Z</cp:lastPrinted>
  <dcterms:modified xsi:type="dcterms:W3CDTF">2020-09-17T15:38:30Z</dcterms:modified>
  <cp:revision>639</cp:revision>
  <dc:subject/>
  <dc:title>Slide Interreg Italia-Austria 2021-2027_21 luglio 2020</dc:title>
</cp:coreProperties>
</file>